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540-CE92-45EF-A68A-3EA0040A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19E-C1EE-4791-B1CD-0D755C6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BFD-B788-42C0-AF80-0325AEE8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74B-1B6A-424A-9CDC-BDD94230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E17-BCF8-43A5-83ED-044C8698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E0D7-5373-48DB-9568-4710228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145-64BD-47D6-80B3-A752BE4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1259-EE2F-4937-B908-B0872EC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5F8E-AA70-44A2-AF56-5273010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099-0BD9-4769-9153-4992E57A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996-5D9B-48A9-AF70-E7F20F3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F93-43DB-47DF-B860-02DCF9F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2790-AA2C-4CA8-BBE6-30518AE9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1085-088E-41C5-9E7B-FD337C0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D62E-77BF-4993-961C-3BA59864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80E-DB04-401D-90EB-A72BCCF7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E96E-F5F6-4C34-AE3B-9B535BBB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C6E-9E72-4971-8C7F-F0DA85C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F05-A83A-48AC-94B0-F1D62DA5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5FE-EC66-4C72-A31C-BAB2020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3EE-4D00-4CC3-82B2-BEF6FB3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440-AA0D-4691-B408-6ABBA17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818-75C4-44BD-A5FA-F0CF44E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ED9-5E6B-471F-8920-6CB9705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B5E-5F38-4238-9513-92028C3DB2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2E86-B316-4764-BC21-B54BAEFAAE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rightoneye.com/b/sites/default/files/cataract%2520photo.jpg&amp;imgrefurl=http://brightoneye.com/b/services/cataract-surgery&amp;usg=__JP09EqenC2LmewKpMom8cuip-LY=&amp;h=288&amp;w=340&amp;sz=84&amp;hl=en&amp;start=9&amp;itbs=1&amp;tbnid=yFZifzZiziNTaM:&amp;tbnh=101&amp;tbnw=119&amp;prev=/images%3Fq%3Dcataracts%2Bof%2Bthe%2Beye%26hl%3Den%26safe%3Dactive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9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eneral and Special Sen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3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3120" y="431640"/>
            <a:ext cx="853596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rmoreceptors (receptors of temperature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wo types of thermo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d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eat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nd in free nerve endings and other specialize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cells beneath the sk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cattered widely throughout the bod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oth types display adap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oprioception: sense of orientation or posi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oprio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cated in muscles, tendons, joints, and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about movement and position i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t to the pariet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pertaining to coordination of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keletal muscle activity is sent to the cerebell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pecial Sens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ive special sense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ion: sense of sme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ory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; stimulated by chemicals tha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solve in the moisture of the nasal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information interpreted with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lfactory area of the tempor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Quick adapt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6a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70120" y="222120"/>
            <a:ext cx="560376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Gustation: sense of tast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 buds: special organs of taste. Modified epithelial cel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ste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; sensitive to the chemicals in foo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r basic taste sensations: salty, sweet, sour, and bit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7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03120" y="511200"/>
            <a:ext cx="853596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ion: sense of sigh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s: organs of vis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ual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Visual accessory orga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lash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8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30440" y="239760"/>
            <a:ext cx="58831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609480"/>
            <a:ext cx="640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ensory System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ensory system allows us to experience the world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xternal informa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ternal informa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yeball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herical shape approximately 2 to 3 c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ame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osed of three layers: sclera, choroid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nd 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ye Fea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ind Spo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rea where your optic nerve attaches to your ey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v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highest concentration of con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enter of color vision and sharpest vi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9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3120" y="932040"/>
            <a:ext cx="8535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cler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utermost lay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de of tough fibrous connective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rnea is a forward extension of the scler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ye Cavitie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terior Cav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so called the vitreous chamb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tains vitreous bod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terior Cav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tains the anterior and posterior chamb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terior Cav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terior Chamb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ace between the iris and the cor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sterior Chamb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ace between the suspensory ligament and the ir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10c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03120" y="236520"/>
            <a:ext cx="853596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 (cont’d.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roi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rea between the Sclera and the 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ly vascul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s of the Ey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ld in place by suspensory liga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cuses visual ima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spensory ligaments control the shape of the ey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loser the object, the suspensory ligaments relax and the lens appears more r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taract: Loss of transparency in the lens. (looks cloudy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124080"/>
            <a:ext cx="40384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3808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s and Sens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: specialized area of a sensory neuron that detects a specific stimul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ive types of sensory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em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receptors (nociceptors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rm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hoto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yers of the eyeball (cont’d.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tin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nermost layer that lines posterior two-thir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f eyebal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tains photoreceptors: rods most abundant 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riphery, cones most abundant in cent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c disk: blind spot because no rods or con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ow seeing occu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ght enters the cornea through the pupi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ens bends (refracts) the light wav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 focus the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hotoreceptors in retina transmit nervo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mpulses to optic nerv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ptic nerve sends signal to occipital lo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ow color vision to occu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re Red, Blue, Gre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gest concetration in the fov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17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3120" y="816120"/>
            <a:ext cx="8535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ors affecting Blindn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laucoma: Interference with the circulation of the aqueous humor. Increases pressure inside the ey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abe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ed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tinal Detachm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r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vided by receptors in the semicircular cana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cated in the Organ of Cort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ing range: 20-2000 Hert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asured in decibe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Hear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ructure of the ear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ree part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ternal ear: composed of auricle and extern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uditory canal; extends to eardrum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iddle ear: contains eardrum, three tiny bones, an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ustachian tub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ner ear: three parts include vestibule, semicircul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anals, and cochle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2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03120" y="639720"/>
            <a:ext cx="85359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atomy: Middle 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ympanic membrane (Eardrum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llects vibrations from external enviro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r Bones (Ossicle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nect Tympanic membrane to oval window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cu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apes (smalles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l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Hearing Work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undwaves collect in the tympanic membran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mbrane vibrates and activates the ossic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ssicles vibrate on the oval wind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bration sent to the Vestibule and through the Cochle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" y="22860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ation: conscious awareness of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coming sensory inform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ur components of sensation perception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imul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ory nerv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ecial area of the bra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ring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ce the vibration reaches the Cranial nerves from the Cochlea, the soundwave is converted to chemical energy and interpreted by the bra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ing range: 20-2000 Hertz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nse of Balanc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ceptors for balanc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cated within the vestibule and th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micircular canals of the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; hair like projec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mmersed in fluid of the inner e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5e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751040" y="236520"/>
            <a:ext cx="564048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haracteristics of sensation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jection: process by which the brain, af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eiving a sensation, refers that sensation bac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o its sour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daptation: when sensory receptors a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inuously stimulated, the receptors se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ewer signals to the area of the brain th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prets that particular sensory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280" y="3049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General Sens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Five general senses: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opriocept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receptors (nociceptors)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sist of free nerve endings stimulated by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ssue damag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o not adapt; may continue to send signal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fter stimulus is remove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dely distributed throughout the skin, viscer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rgans, and other internal tissue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ot present in nervous tissue of the brai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897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ure 9.2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3120" y="1803240"/>
            <a:ext cx="85359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uch and pressure receptor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chanoreceptors; respond to forces that press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ove, or deform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uch receptors are found mostly in the skin;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so called tactile recepto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essure receptors are located in the skin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ubcutaneous tissue, and deep tissu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9:57:26Z</dcterms:created>
  <dc:creator>jeff bonomo</dc:creator>
  <dc:description/>
  <dc:language>en-US</dc:language>
  <cp:lastModifiedBy>jeff bonomo</cp:lastModifiedBy>
  <dcterms:modified xsi:type="dcterms:W3CDTF">2010-11-16T14:33:47Z</dcterms:modified>
  <cp:revision>14</cp:revision>
  <dc:subject/>
  <dc:title>Chapter 9 </dc:title>
</cp:coreProperties>
</file>